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D2A4-EA06-446E-9F37-FA9FC9FAE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99E4-6B8C-4265-8688-0E426B9E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341B-FBA1-4F04-A3D7-C7B4D368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61AD-40FB-4F51-ACC6-D0F0FEA6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8B40-7AE6-44A7-870B-9A39C5D5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C56F-CE02-4816-8B98-13AB7208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3DE5-989B-4870-BAF1-B6B175A4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F728-5444-4922-BE9B-F3186F20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C40A-68C3-4BD4-94FE-914B0DFC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FD7E-9A15-4A26-82F0-4BDC0964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6D20-D789-4283-BB04-7289D42C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717D-9640-41F4-AA9C-E5D15F3B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E05E-5B47-4D43-A168-71BAB5EC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0DDA-F156-4137-BA4F-A22C248A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507B-7A04-48F9-B4E0-C84BD1C3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0BE6-9CEA-46A0-B360-E8985281D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CDDA-683A-4773-AA02-4308EB34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5174-195A-429C-AFBA-A74F3A83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45EF-9F82-4EA5-A656-52125A87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A608-A905-41E2-A6F4-7DEEED4E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5469-1E9A-4FF1-9A64-5C3148BE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AFBB-6BDD-46BF-A3CD-A7E67936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ED6C-B47D-44F8-94BB-4EF7AFBC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51A1-51CE-45AC-B835-DD3BC93C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5400"/>
            </a:gs>
            <a:gs pos="100000">
              <a:srgbClr val="f4be5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50000">
                  <a:srgbClr val="50732e"/>
                </a:gs>
                <a:gs pos="100000">
                  <a:srgbClr val="2a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2a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D78E-0FA1-45DE-997E-C5613DD4064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5400"/>
            </a:gs>
            <a:gs pos="100000">
              <a:srgbClr val="f4be5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50000">
                  <a:srgbClr val="50732e"/>
                </a:gs>
                <a:gs pos="100000">
                  <a:srgbClr val="2a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2a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2B50-8BEB-4132-9BC8-77785FCCB03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Виды спорта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924000" y="5660640"/>
            <a:ext cx="507204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дготовила Пушкарёва Анастас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292720" y="158760"/>
            <a:ext cx="3527280" cy="125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Швец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86" name="Picture 4" descr="06-18_rus-swe_SM_14"/>
          <p:cNvPicPr/>
          <p:nvPr/>
        </p:nvPicPr>
        <p:blipFill>
          <a:blip r:embed="rId1"/>
          <a:stretch/>
        </p:blipFill>
        <p:spPr>
          <a:xfrm>
            <a:off x="179280" y="189000"/>
            <a:ext cx="4897440" cy="3938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06-18_rus-swe_SM_19"/>
          <p:cNvPicPr/>
          <p:nvPr/>
        </p:nvPicPr>
        <p:blipFill>
          <a:blip r:embed="rId2"/>
          <a:stretch/>
        </p:blipFill>
        <p:spPr>
          <a:xfrm>
            <a:off x="5305320" y="2060640"/>
            <a:ext cx="36529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3394080" cy="118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Швец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89" name="Picture 4" descr="06-18_rus-swe_SM_27"/>
          <p:cNvPicPr/>
          <p:nvPr/>
        </p:nvPicPr>
        <p:blipFill>
          <a:blip r:embed="rId1"/>
          <a:stretch/>
        </p:blipFill>
        <p:spPr>
          <a:xfrm>
            <a:off x="250920" y="260280"/>
            <a:ext cx="4897440" cy="4051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06-18_rus-swe_SM_22"/>
          <p:cNvPicPr/>
          <p:nvPr/>
        </p:nvPicPr>
        <p:blipFill>
          <a:blip r:embed="rId2"/>
          <a:stretch/>
        </p:blipFill>
        <p:spPr>
          <a:xfrm>
            <a:off x="5462640" y="907920"/>
            <a:ext cx="341784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атч Россия – Голландия.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т матч стал, несомненно, лучшим футболом в исполнении сборной России за последние 20 лет. Встреча закончилась со счетом 3:1 в пользу России. Голы забили Павлюченко, Аршавин и Торбинский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716360" y="188640"/>
            <a:ext cx="41148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олланд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94" name="Picture 4" descr="1214164674_485e73b1cbca5"/>
          <p:cNvPicPr/>
          <p:nvPr/>
        </p:nvPicPr>
        <p:blipFill>
          <a:blip r:embed="rId1"/>
          <a:stretch/>
        </p:blipFill>
        <p:spPr>
          <a:xfrm>
            <a:off x="250920" y="260280"/>
            <a:ext cx="4270320" cy="5905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1214164736_485e74059d6e1"/>
          <p:cNvPicPr/>
          <p:nvPr/>
        </p:nvPicPr>
        <p:blipFill>
          <a:blip r:embed="rId2"/>
          <a:stretch/>
        </p:blipFill>
        <p:spPr>
          <a:xfrm>
            <a:off x="4711680" y="1052640"/>
            <a:ext cx="44323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1280" y="4076280"/>
            <a:ext cx="3970080" cy="11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олланд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97" name="Picture 4" descr="1214164800_485e7542b1196"/>
          <p:cNvPicPr/>
          <p:nvPr/>
        </p:nvPicPr>
        <p:blipFill>
          <a:blip r:embed="rId1"/>
          <a:stretch/>
        </p:blipFill>
        <p:spPr>
          <a:xfrm>
            <a:off x="179280" y="189000"/>
            <a:ext cx="5329440" cy="3382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1214164748_485e73b1bf848"/>
          <p:cNvPicPr/>
          <p:nvPr/>
        </p:nvPicPr>
        <p:blipFill>
          <a:blip r:embed="rId2"/>
          <a:stretch/>
        </p:blipFill>
        <p:spPr>
          <a:xfrm>
            <a:off x="5327640" y="1557360"/>
            <a:ext cx="351648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788000" y="158400"/>
            <a:ext cx="38988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олланд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200" name="Picture 4" descr="1214164795_485e7542b86ff"/>
          <p:cNvPicPr/>
          <p:nvPr/>
        </p:nvPicPr>
        <p:blipFill>
          <a:blip r:embed="rId1"/>
          <a:stretch/>
        </p:blipFill>
        <p:spPr>
          <a:xfrm>
            <a:off x="179280" y="189000"/>
            <a:ext cx="4278600" cy="5616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1214164831_485e761c93941"/>
          <p:cNvPicPr/>
          <p:nvPr/>
        </p:nvPicPr>
        <p:blipFill>
          <a:blip r:embed="rId2"/>
          <a:stretch/>
        </p:blipFill>
        <p:spPr>
          <a:xfrm>
            <a:off x="4903920" y="981000"/>
            <a:ext cx="404496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f2d9"/>
                </a:solidFill>
                <a:latin typeface="Arial"/>
              </a:rPr>
              <a:t>По итогам этого турнира Россия получила бронзовые медали. </a:t>
            </a:r>
            <a:endParaRPr b="0" lang="en-US" sz="4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203" name="Picture 4" descr="26907779_1213119785_AP080610014542"/>
          <p:cNvPicPr/>
          <p:nvPr/>
        </p:nvPicPr>
        <p:blipFill>
          <a:blip r:embed="rId1"/>
          <a:stretch/>
        </p:blipFill>
        <p:spPr>
          <a:xfrm>
            <a:off x="826920" y="1484280"/>
            <a:ext cx="78487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f2d9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000" y="188640"/>
            <a:ext cx="793116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Хочу поблагодарить все футболистов сборной России за такой праздник, и пусть они так же радуют своих болельщик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4" descr="06-14_gre-rus_SA_13"/>
          <p:cNvPicPr/>
          <p:nvPr/>
        </p:nvPicPr>
        <p:blipFill>
          <a:blip r:embed="rId1"/>
          <a:stretch/>
        </p:blipFill>
        <p:spPr>
          <a:xfrm>
            <a:off x="1187280" y="1557360"/>
            <a:ext cx="72723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Футбол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орная России на чемпионате Европы 2008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4" descr="1213609735_football_russia_grecia"/>
          <p:cNvPicPr/>
          <p:nvPr/>
        </p:nvPicPr>
        <p:blipFill>
          <a:blip r:embed="rId2"/>
          <a:stretch/>
        </p:blipFill>
        <p:spPr>
          <a:xfrm>
            <a:off x="5000760" y="1600200"/>
            <a:ext cx="3333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атч Россия – Испания.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Евро 2008 наша сборная играла с Испанцами два матча. Оба матча мы проиграли. Первую встречу со счетом 1:4, вторую 0:3. Следует заметить что Испанцы стали чемпионами этого турнир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741920" y="333000"/>
            <a:ext cx="4222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- Испания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68" name="Picture 4" descr="26907781_1213119800_AP080610014609"/>
          <p:cNvPicPr/>
          <p:nvPr/>
        </p:nvPicPr>
        <p:blipFill>
          <a:blip r:embed="rId1"/>
          <a:stretch/>
        </p:blipFill>
        <p:spPr>
          <a:xfrm>
            <a:off x="179280" y="189000"/>
            <a:ext cx="4392720" cy="3136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26907793_1213119825_AP080610014799"/>
          <p:cNvPicPr/>
          <p:nvPr/>
        </p:nvPicPr>
        <p:blipFill>
          <a:blip r:embed="rId2"/>
          <a:stretch/>
        </p:blipFill>
        <p:spPr>
          <a:xfrm>
            <a:off x="4356000" y="3624120"/>
            <a:ext cx="449100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3640" y="333360"/>
            <a:ext cx="39592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- Испания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71" name="Picture 8" descr="26907814_1213119933_AP080610016315"/>
          <p:cNvPicPr/>
          <p:nvPr/>
        </p:nvPicPr>
        <p:blipFill>
          <a:blip r:embed="rId1"/>
          <a:stretch/>
        </p:blipFill>
        <p:spPr>
          <a:xfrm>
            <a:off x="179280" y="189000"/>
            <a:ext cx="4537080" cy="3416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26907795_1213119838_AP080610014955"/>
          <p:cNvPicPr/>
          <p:nvPr/>
        </p:nvPicPr>
        <p:blipFill>
          <a:blip r:embed="rId2"/>
          <a:stretch/>
        </p:blipFill>
        <p:spPr>
          <a:xfrm>
            <a:off x="4716360" y="3668760"/>
            <a:ext cx="442764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атч Россия - Греция  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99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Эту встречу с греками мы выиграли со счетом 1:0. Главным героем встречи стал Константин Зырянов, который пушечным ударом забил гол. Следует отметить и Семака, который дал Константину пас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4" descr="06-14_gre-rus_MEL_17"/>
          <p:cNvPicPr/>
          <p:nvPr/>
        </p:nvPicPr>
        <p:blipFill>
          <a:blip r:embed="rId2"/>
          <a:stretch/>
        </p:blipFill>
        <p:spPr>
          <a:xfrm>
            <a:off x="3924360" y="1557360"/>
            <a:ext cx="504036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3280" y="158760"/>
            <a:ext cx="3816360" cy="15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рец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77" name="Picture 7" descr="06-14_gre-rus_SA_17"/>
          <p:cNvPicPr/>
          <p:nvPr/>
        </p:nvPicPr>
        <p:blipFill>
          <a:blip r:embed="rId1"/>
          <a:stretch/>
        </p:blipFill>
        <p:spPr>
          <a:xfrm>
            <a:off x="5078520" y="2205000"/>
            <a:ext cx="3813120" cy="4464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06-14_gre-rus_MEL_22"/>
          <p:cNvPicPr/>
          <p:nvPr/>
        </p:nvPicPr>
        <p:blipFill>
          <a:blip r:embed="rId2"/>
          <a:stretch/>
        </p:blipFill>
        <p:spPr>
          <a:xfrm>
            <a:off x="179280" y="0"/>
            <a:ext cx="44244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40000" y="158760"/>
            <a:ext cx="454644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рец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80" name="Picture 4" descr="06-14_gre-rus_SA_25"/>
          <p:cNvPicPr/>
          <p:nvPr/>
        </p:nvPicPr>
        <p:blipFill>
          <a:blip r:embed="rId1"/>
          <a:stretch/>
        </p:blipFill>
        <p:spPr>
          <a:xfrm>
            <a:off x="250920" y="189000"/>
            <a:ext cx="3695760" cy="3816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06-14_gre-rus_SA_33"/>
          <p:cNvPicPr/>
          <p:nvPr/>
        </p:nvPicPr>
        <p:blipFill>
          <a:blip r:embed="rId2"/>
          <a:stretch/>
        </p:blipFill>
        <p:spPr>
          <a:xfrm>
            <a:off x="4067280" y="3332160"/>
            <a:ext cx="4929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атч Россия – Швеция.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этом матче Россия обыграла шведов со счетом 2:0. Голы забили Аршавин и Павлюченко. Также стоит выделить Игнашевича, который удачно сыграл против главного бамбордира сборной Швеции Ибрагимовича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4" descr="06-18_rus-swe_SM_18"/>
          <p:cNvPicPr/>
          <p:nvPr/>
        </p:nvPicPr>
        <p:blipFill>
          <a:blip r:embed="rId2"/>
          <a:stretch/>
        </p:blipFill>
        <p:spPr>
          <a:xfrm>
            <a:off x="4211640" y="1628640"/>
            <a:ext cx="460836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3:13:56Z</dcterms:created>
  <dc:creator>USER</dc:creator>
  <dc:description/>
  <dc:language>en-US</dc:language>
  <cp:lastModifiedBy>Ирина Петровна</cp:lastModifiedBy>
  <dcterms:modified xsi:type="dcterms:W3CDTF">2009-08-17T15:14:46Z</dcterms:modified>
  <cp:revision>4</cp:revision>
  <dc:subject/>
  <dc:title>Слайд 1</dc:title>
</cp:coreProperties>
</file>